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2A9-916B-40CC-B894-EB5A6E57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A3D-A143-4D93-B0A3-59FAB79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59A-B797-4E20-B5CA-E53206BE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3D7-5050-41CD-8957-4E742305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773E-F43C-4BCC-86EA-99972341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D8C-593E-4B98-8A96-07363EB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04A-8346-47E4-B10C-3DF95D7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AF8-745D-40EF-824C-31921F6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C3F5-4753-470F-9DAA-09332DD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ED0D-CE67-4A4A-BAB1-BCE9083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9260-2020-4A89-BBFE-E049AB1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E12-D5F4-485A-B057-5775EBB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57A2-FC42-4C41-8428-C1854B9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5C11-24FE-49EF-8699-8F0F359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389-A6B2-4209-AF18-FC73BD8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32C8-7CB4-484D-B084-7CBE2497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8DF3-3B5B-434B-993F-1E8D0453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5502-D568-40B6-8F3B-B9E2847A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943C-69D0-4C03-BEAE-9953D499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4C91-8136-407C-9B56-35E14D8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F880-37EE-4DBA-95D7-62C46F2C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E004-0AC3-42DB-B9DF-F970F5F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8B5-B84E-40D2-B747-4AD8B51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86F4-4DCF-4617-B0A1-333EFB7E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CAAE-F273-495B-B07B-BBFF72C7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DF93-73BB-48C8-B4E4-463FC771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3DDF-D4EE-4A9B-8404-9F3AC629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E7D1-4851-4F79-937F-2BF60FF9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F1F5-93FB-4FBA-BEEA-D2C84DD7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2F43-4E27-418B-A40F-90A63D0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56C4-E7AE-4885-928D-39B036FF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057F-BD27-4129-AA11-E972ECA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AEC8-D162-4EE3-ADF6-A7293E6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497-A8D8-48D1-8EFB-B35F260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A0FB-01A2-40B7-905B-E705E0E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5359-CEDF-45AB-8FFD-48F9AC1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C925-697B-4182-811C-F70E502F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6FA2-57FE-4E52-BE52-0A1D1BCF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272D-DE6C-4E3D-994D-7D981FC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A1F7-72D4-4C76-BC5F-AB600EF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94D7-C7F1-4148-85CB-E1612E76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ABFA-698A-4C28-B8D1-9BF7A7DB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9BC4-3EE4-4AF1-9E13-775EA0FD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FDE-DD5B-4DB0-A9C7-C212F0BC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02B-95D0-457A-A0C5-8920DB8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BF1-9447-48D4-8206-BFCBD93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D4A-DB52-478A-AB7D-D82145E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54B-DC84-41A2-99E5-727F4B7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A5F-5F79-4015-B80E-58BB918B9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19F-0BE5-4366-822C-7AB229009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0A5-B03A-46A6-AE50-38C32277A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A50-6F19-49A0-AC55-0B3ECBAE5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7160" y="2265120"/>
            <a:ext cx="6583320" cy="16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абораторијски тестови за одређивање функционалне способности ендокриног систем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7560" y="235080"/>
            <a:ext cx="515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култе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дицинских наук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 Крагујевцу</a:t>
            </a:r>
            <a:br>
              <a:rPr sz="2000"/>
            </a:br>
            <a:r>
              <a:rPr b="0" lang="sr-R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89920" y="0"/>
            <a:ext cx="1054080" cy="1405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7391520" y="6034320"/>
            <a:ext cx="157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жб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2857680" y="4071960"/>
            <a:ext cx="3141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47680" y="329760"/>
            <a:ext cx="7810560" cy="509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обичајени методи дијагнозе дијабетеса базирани су на различитим хемијским тестовима за одређивање концентрације глукозе и инсулина у крви и ур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Функционални тестови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емија нашт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1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рално оптерећење глукоз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тест толеранције глукозе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206960" y="3772080"/>
            <a:ext cx="4659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466560"/>
            <a:ext cx="3656160" cy="858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Начин извођ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0200" y="1585800"/>
            <a:ext cx="762948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емија наште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и се вади крв ујутру на празан стомак (последњи оброк претходног дана не сме бити после 1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глукозе у крви наште ујутру физиолошки треба да износи 4.4 до 5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док се, у пракси као горња граница сматра 6.1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глукозе наште изна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у два независна налаза) указује на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iabetes mellitu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ке друге варијанте дијабетеса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ипофизн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ли адренал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55200" y="953640"/>
            <a:ext cx="7689960" cy="5216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одређивања гликемије и инсулинемије наште, изводи с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ст оралног оптерећења глукоз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а попије 7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глукозе растворене у 2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воде, а капиларна крв се узима на 0, 30, 60, 90 и 120 мин (у наведеном времену особа не сме да уноси храну нити да ше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основу налаза гликемија у датим временима конструише се крива толеранције глуко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је почетна вредност мања од 7.0, врх мањи од 9.0, а вредност после 120 минута мања од 8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крива гликемије је нормал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5200" y="490680"/>
            <a:ext cx="7856640" cy="6116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бетесна крива постоји ако су вредности веће од 7.0-11.0-11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лази између ове две криве указују на смањену толеранцију на глуко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19080" y="2305080"/>
            <a:ext cx="5715000" cy="3684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664920" y="60800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рива толеранције глукозе код здравих особа и особа са дијабете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6880" y="851040"/>
            <a:ext cx="7877160" cy="515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кон уношењ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лукоз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организам здравих особа долази до пораста нивоа шећера у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у физиолошким границама (максимум 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и пада на почетне вредности у периоду од 2 с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д дијабетича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па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долази до преласка ове границе и појаве виших вредности, тако да је тест толеранције глукозе абнормалан. Осим тога, потребно је често 4-6 сати да би гликемија поново пала на основну вредн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30080" y="850680"/>
            <a:ext cx="7840800" cy="5335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овремено се одређује и ниво инсулина у крви (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инсулинем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изиолошке вредности концентрације инсулина наште: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0 mU/m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ИЈАБЕТЕСА ТИ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нивои инсулина у плазми су веома ниски или се не могу детектовати у фази гладовања, а чак и после об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д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ИЈАБЕТЕСА ТИП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ниво инсулина у плазми може бити неколико пута виши од нормалног и обично наставља да се повећава током теста оптерећења глукозом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4960" y="969840"/>
            <a:ext cx="8035920" cy="501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гноза дијебетеса се може поставити уколико постоје клинички знаци и ако је гликемија наште већа од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8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ијабетес постоји ако су све три основне вредности гликемије већ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7.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1.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1.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мањена толеранција на глукозу постоји уколико се налази гликемија крећу испод налаза за дијабетес а изнад нормалних вред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30080" y="969840"/>
            <a:ext cx="722664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Глукоза у урину 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одређивање глукозе која се излучи ури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рин се узима на почетку и на крај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GTT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драва особа губи немерљиве количине глукозе урином (налаз негатива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зитиван резултат глукозе у урину је углавном повезан с повећаним вредностима овог параметра у крви (изнад 10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mol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, што се најчешће дeшавa код дијабетичaр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6240" y="556920"/>
            <a:ext cx="8321400" cy="6040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начајна метода у праћењу регулације дијабетеса је одређивањ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икозираног хемоглобин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ако гликозирани хемоглоби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астаје код свих људи, што је већа концентрација глукозе у крви, већа је и 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значавају просечну регулацију гликемије у одређеном врeмeнском период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но означава просечну концентрацију глукозе у крви током пoследња три месецa.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д нормогликемичних особа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4-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дно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д особа које болују од дијабетеса ј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5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порука је да се вредност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A1c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изражавају у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바탕"/>
              </a:rPr>
              <a:t>mmol/mol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mmol HbA1c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mol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купног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Hb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 за који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ије везана глукоза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Gulim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31920" y="1390680"/>
          <a:ext cx="6326280" cy="5151240"/>
        </p:xfrm>
        <a:graphic>
          <a:graphicData uri="http://schemas.openxmlformats.org/drawingml/2006/table">
            <a:tbl>
              <a:tblPr/>
              <a:tblGrid>
                <a:gridCol w="3146400"/>
                <a:gridCol w="31798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bA</a:t>
                      </a:r>
                      <a:r>
                        <a:rPr b="1" lang="it-IT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c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(DCCT/NGS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bA</a:t>
                      </a:r>
                      <a:r>
                        <a:rPr b="1" lang="it-IT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c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(IFC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mmol/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mol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45540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атомски положај главних ендокриних жл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542960" y="1795320"/>
            <a:ext cx="6326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0" t="1399" r="5143" b="0"/>
          <a:stretch/>
        </p:blipFill>
        <p:spPr>
          <a:xfrm>
            <a:off x="0" y="55260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0" y="638280"/>
            <a:ext cx="914400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ивои глукозе у дијабетесу и осталим врстама хипергликем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560" y="680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абораторијски тестови за испитивање функције штитаст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511360" y="2502000"/>
            <a:ext cx="40546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9800" y="1060560"/>
            <a:ext cx="8783640" cy="5170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обичајени дијагностички тесто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RIA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а испитивање функције штитасте жлезде подразумевају одређивање концентраци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ободно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ирокс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ијодтиронина T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– тиреостимулирајућег хор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 –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ироксин везујућег глобу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H- тиреотрoпин рилизинг хормо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24040" y="982800"/>
            <a:ext cx="4944960" cy="714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ферентне вред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74560" y="2107800"/>
            <a:ext cx="5460840" cy="39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4.....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50-15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n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3........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9-28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n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SH........20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IU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BG........0.3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ol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6480" y="534600"/>
            <a:ext cx="8226360" cy="722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ремећаји штитасте жлез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638360"/>
            <a:ext cx="7790040" cy="474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марна хипотирео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саме жлезд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овиш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може бити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екундарна хипотиреоз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хипофи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B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може бити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37880" y="736200"/>
            <a:ext cx="7862760" cy="5676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цијарна хипотиреоз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болести хипоталам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сниж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ипе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и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оз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хиперфункција штитасте жлез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4 и Т3 изразито повиш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нижен скоро до ну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иреостимулишући имуноглобули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ишени код аутоимунске хипертиреоз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ижени код аденома тиреоиде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аб одговор 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9680" y="618840"/>
            <a:ext cx="82263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бораторијски тестов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 рану дијагнозу трудноћ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713120" y="3849840"/>
            <a:ext cx="4059360" cy="2739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74840" y="1954080"/>
            <a:ext cx="390492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0400" y="326520"/>
            <a:ext cx="8226360" cy="452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удноћа започиње оплођењем овума (бластоциста) и његовим транспортом у утерус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ластоцисту у утерусу окружују ћелије цитотрофобласта (унутрашњи слој) и ћелије синцициотрофобласта (спољашњи слој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7-8 дана после оплођења бластоциста се имплантира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копав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 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најчешћ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адњи зид ендометријум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Ћелије цитотрофобласта бујају и заједно са ћелијам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ендометријума мајке формирају плаценту и мембране (фетоплацентна ендокрина јединиц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0" y="4013280"/>
            <a:ext cx="3763800" cy="284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4000680" y="4052880"/>
            <a:ext cx="343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Синцициотроф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Цитотроф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Епи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Хипоблас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Бластоцел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апилари мајк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мнионска шупљ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5400" y="820440"/>
            <a:ext cx="8226360" cy="5305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мо 4 дана после оплође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ћелије цитотрофобласта започињу секрециј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ума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ориогонадотропног хормона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 (human chorionic gonadotroph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 гликопротеин који стимулише секрецију естрогена и прогестерона из корпуса лутеума, а то одржава фето-плацентарну јединиц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ај хормон се налази у крви и у свим телесним течностима жене. После оплодње најпре се може утврдити повишени ниво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CG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крви, а послe нeколико дана и у мoкраћи;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Детекција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hCG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у урину и крви је основа већине тестова за рано откривање трудноћ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5400" y="774360"/>
            <a:ext cx="8226360" cy="535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јвећи број тестова за трудноћу базиран је на утврђивању постојања овог хормона у урин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зимање узорка мокраће много је лакше и комфорније, него узимање узорка крви из ве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естови су углавном базирани на реакцији између hCG и антитела против овога хормон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тела се налазе на плочици где се апликује кап мокраће. Промена боје реагенса је потврда да се ова реакција заиста одиграла, односно да је жена тру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узданост реакције је око 97%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зависно од тога када се тест уради).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6360" y="333000"/>
            <a:ext cx="631692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ндокрини сис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240" y="167652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ма улогу у регистровању промена унутрашње и спољашње средин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езбеђује конкретну активност организма ка неопходним прилагођавањима у циљу адекватне адапт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окрине жлезде или специјализоване ћелије ослобађају у циркулацију хемијске гласнике-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хормо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и модификују активност циљних ћелија, ткива и органа (имају кључну улогу у регулацији скоро свих функција организ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55480" y="1611360"/>
            <a:ext cx="7871040" cy="4929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оизотопске мет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чна хроматографија под високим притиск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HPL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асна хроматографија са спектрофотохемијском анали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 * *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процени стања ендокриног система се квалитативно и квантитативно одређују рецептори и испитује ланац интрацелуларне сигнализације за сваки хормон конкрет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17560" y="455760"/>
            <a:ext cx="731304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вантитативно испитивање а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хорм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6000" y="692280"/>
            <a:ext cx="856476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диоизотопске методе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же за прецизно мерење хормона (веома мала количина хормона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ухватају припрему хормона у радиоактивној форми уз коришћење протеина са великим афинитетом према њем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ристе се више врста протеи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Ако се користе антите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диоимунолошка     метода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immunoassay, RI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 антитела на инсулин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обод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</a:t>
            </a:r>
            <a:r>
              <a:rPr b="0" lang="sr-C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9040" y="325080"/>
            <a:ext cx="63165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инцип радиоимунолошк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    метод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(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adioimmunoassay, RIA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0440" y="164628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нтитела против пептидних хормона човека се припремају имунизацијом животиња (кунића, заморчића, ова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молекули хормона (хормон функционише као хаптен) могу постати антигени спајањем са већим протеинима (обично албумином, тиреоглобулин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ле инкубације хормона и антитела, одваја се слободна од везане фракције хор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одавањем радиоактивно обележеног хормона мери се пропорција слободног хормона везаног за анти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2240" y="1211400"/>
            <a:ext cx="729936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ракције се могу одвојити на више начина: апсорпцијом слободног хормона на угаљ везан за декстран или преципитацијом са алуминијум сулф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мерење се користе бројачи бета или гама чест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опходни су носачи велике специфичне активности, оптимална концентрација антитела и антисерум који се разблажу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9960" y="1344600"/>
            <a:ext cx="7766280" cy="452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. Ако се уместо антитела користе природни протеини, реч је о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компетитивно везујућој мето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родни глобулин за мерење концентрације тирок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Радиоизотопска метода у којој се користе ензими се назив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адиоензимска метода (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REA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ивање концентрације катехоламина у плазми и тки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83720" y="483840"/>
            <a:ext cx="6751800" cy="1306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абораторијски тестови за одређивање концентрације глукозе у кр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865080" y="2135160"/>
            <a:ext cx="6688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0:17:57Z</dcterms:created>
  <dc:creator>Zivkovic Dusan</dc:creator>
  <dc:description/>
  <dc:language>en-US</dc:language>
  <cp:lastModifiedBy>User</cp:lastModifiedBy>
  <dcterms:modified xsi:type="dcterms:W3CDTF">2014-10-01T14:47:18Z</dcterms:modified>
  <cp:revision>53</cp:revision>
  <dc:subject/>
  <dc:title>Slide 1</dc:title>
</cp:coreProperties>
</file>